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png" ContentType="image/png"/>
  <Override PartName="/ppt/media/projctor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F25C-99EF-4B73-B31C-47A5EF0B978E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8AAB-20B4-4F57-89F1-1AEEB7CE2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0C52-61AA-4AB1-8D09-3493D4453267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7B07-DB21-4B62-A85B-4CEBE82B31B2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A6E2-94EF-43C5-9E9A-BD2F2D0E0A78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4DA9-4DB9-49EC-B3C8-3DB6ED377EC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301D-283F-4534-BD93-B7D7C29F181E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08FA-5237-4BE8-A398-D324EDE45C05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E60F-453C-4E75-B212-2778848B6E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B7E7-F7EB-4992-9603-ED5BF192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BB31-1090-48B7-8564-06396A2C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93FF-9442-4D73-A9D0-284B13299C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015A-A76B-4AD0-AF22-98D05C92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121F-74F1-4402-9920-E4FD977E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D0D2-EEE0-4728-A3E3-DA3029B7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4A62-BC0A-4D9C-B91C-CA55371A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EAB3-2E3F-400F-9331-D5DED9F9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B97D-9EE5-43FA-B04C-15D55044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AB60-AD65-41AC-81FE-BE3DF10B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3BE4E-EEB9-413E-8DC6-AEC0DB49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D65C-9FC9-4EA5-986C-3EEF4654B3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3.xml"/><Relationship Id="rId5" Type="http://schemas.openxmlformats.org/officeDocument/2006/relationships/slide" Target="slide104.xml"/><Relationship Id="rId6" Type="http://schemas.openxmlformats.org/officeDocument/2006/relationships/slide" Target="slide104.xml"/><Relationship Id="rId7" Type="http://schemas.openxmlformats.org/officeDocument/2006/relationships/slide" Target="slide104.xml"/><Relationship Id="rId8" Type="http://schemas.openxmlformats.org/officeDocument/2006/relationships/slide" Target="slide105.xml"/><Relationship Id="rId9" Type="http://schemas.openxmlformats.org/officeDocument/2006/relationships/slide" Target="slide105.xml"/><Relationship Id="rId10" Type="http://schemas.openxmlformats.org/officeDocument/2006/relationships/slide" Target="slide105.xml"/><Relationship Id="rId11" Type="http://schemas.openxmlformats.org/officeDocument/2006/relationships/slide" Target="slide102.xml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" Target="slide39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5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2.xml"/><Relationship Id="rId5" Type="http://schemas.openxmlformats.org/officeDocument/2006/relationships/slide" Target="slide43.xml"/><Relationship Id="rId6" Type="http://schemas.openxmlformats.org/officeDocument/2006/relationships/slide" Target="slide35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" Target="slide124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5.xml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" Target="slide53.xml"/><Relationship Id="rId6" Type="http://schemas.openxmlformats.org/officeDocument/2006/relationships/slide" Target="slide6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E:/&#36164;&#26009;/&#35838;&#20214;/&#26032;&#24314;%20Microsoft%20PowerPoint%20&#28436;&#31034;&#25991;&#31295;.ppt" TargetMode="External"/><Relationship Id="rId3" Type="http://schemas.openxmlformats.org/officeDocument/2006/relationships/slide" Target="slide47.xml"/><Relationship Id="rId4" Type="http://schemas.openxmlformats.org/officeDocument/2006/relationships/hyperlink" Target="file:///E:/&#36164;&#26009;/&#35838;&#20214;/&#26032;&#24314;%20Microsoft%20PowerPoint%20&#28436;&#31034;&#25991;&#31295;.ppt" TargetMode="External"/><Relationship Id="rId5" Type="http://schemas.openxmlformats.org/officeDocument/2006/relationships/slide" Target="slide63.xml"/><Relationship Id="rId6" Type="http://schemas.openxmlformats.org/officeDocument/2006/relationships/hyperlink" Target="file:///E:/&#36164;&#26009;/&#35838;&#20214;/&#26032;&#24314;%20Microsoft%20PowerPoint%20&#28436;&#31034;&#25991;&#31295;.ppt" TargetMode="External"/><Relationship Id="rId7" Type="http://schemas.openxmlformats.org/officeDocument/2006/relationships/slide" Target="slide114.xml"/><Relationship Id="rId8" Type="http://schemas.openxmlformats.org/officeDocument/2006/relationships/hyperlink" Target="file:///E:/&#36164;&#26009;/&#35838;&#20214;/&#26032;&#24314;%20Microsoft%20PowerPoint%20&#28436;&#31034;&#25991;&#31295;.ppt" TargetMode="External"/><Relationship Id="rId9" Type="http://schemas.openxmlformats.org/officeDocument/2006/relationships/slide" Target="slide120.xml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4.xml"/><Relationship Id="rId3" Type="http://schemas.openxmlformats.org/officeDocument/2006/relationships/slide" Target="slide55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5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4.xml"/><Relationship Id="rId3" Type="http://schemas.openxmlformats.org/officeDocument/2006/relationships/slide" Target="slide82.xml"/><Relationship Id="rId4" Type="http://schemas.openxmlformats.org/officeDocument/2006/relationships/slide" Target="slide86.xml"/><Relationship Id="rId5" Type="http://schemas.openxmlformats.org/officeDocument/2006/relationships/slide" Target="slide95.xml"/><Relationship Id="rId6" Type="http://schemas.openxmlformats.org/officeDocument/2006/relationships/slide" Target="slide98.xml"/><Relationship Id="rId7" Type="http://schemas.openxmlformats.org/officeDocument/2006/relationships/slide" Target="slide110.xml"/><Relationship Id="rId8" Type="http://schemas.openxmlformats.org/officeDocument/2006/relationships/slide" Target="slide113.xml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5.xml"/><Relationship Id="rId3" Type="http://schemas.openxmlformats.org/officeDocument/2006/relationships/slide" Target="slide71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" Target="slide66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9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75.xml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8.xml"/><Relationship Id="rId8" Type="http://schemas.openxmlformats.org/officeDocument/2006/relationships/slide" Target="slide79.xml"/><Relationship Id="rId9" Type="http://schemas.openxmlformats.org/officeDocument/2006/relationships/slide" Target="slide79.xml"/><Relationship Id="rId10" Type="http://schemas.openxmlformats.org/officeDocument/2006/relationships/slide" Target="slide80.xml"/><Relationship Id="rId11" Type="http://schemas.openxmlformats.org/officeDocument/2006/relationships/slide" Target="slide81.xml"/><Relationship Id="rId12" Type="http://schemas.openxmlformats.org/officeDocument/2006/relationships/slide" Target="slide81.xml"/><Relationship Id="rId1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7.xml"/><Relationship Id="rId3" Type="http://schemas.openxmlformats.org/officeDocument/2006/relationships/slide" Target="slide88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0.xml"/><Relationship Id="rId3" Type="http://schemas.openxmlformats.org/officeDocument/2006/relationships/slide" Target="slide89.xml"/><Relationship Id="rId4" Type="http://schemas.openxmlformats.org/officeDocument/2006/relationships/slide" Target="slide91.xml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slide" Target="slide94.xml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6.xml"/><Relationship Id="rId3" Type="http://schemas.openxmlformats.org/officeDocument/2006/relationships/slide" Target="slide97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9.xml"/><Relationship Id="rId3" Type="http://schemas.openxmlformats.org/officeDocument/2006/relationships/slide" Target="slide101.xml"/><Relationship Id="rId4" Type="http://schemas.openxmlformats.org/officeDocument/2006/relationships/slide" Target="slide106.xml"/><Relationship Id="rId5" Type="http://schemas.openxmlformats.org/officeDocument/2006/relationships/slide" Target="slide100.xml"/><Relationship Id="rId6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第七节   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腹部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C828-4727-4B54-88DD-D0E8F214535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上角（胸骨下角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640" y="2421000"/>
            <a:ext cx="665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两侧肋弓的夹角，剑突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于判断体形及肝脾的测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7BF4-DFBB-4E34-AB1C-1EA6CA990D1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及伴随症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：脾脓肿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及摩擦感：脾周围炎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光滑：慢性疟疾、黑热病、慢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凹凸不平：脾肿瘤、结核、淋巴肉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B1D7-8185-48C5-BE92-BDE79C33694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的测量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甲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甲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2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丁戊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9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表示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74D7-E06B-428B-9CC6-931271B2B54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示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数表示： 如脾大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测右缘到正中线的最大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+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负数表示：未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则测脾右缘到正中线的最短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-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F346-6A87-4997-8556-5285A08F0CF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1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缘至脾下缘间的距离（厘米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时适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只测此线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1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8D13-8B60-45FA-9F13-B5AB0D85E6C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2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点到最远脾尖之间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6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2360-4A81-43A4-9330-E8DD0EC5788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丁戊线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右缘到正中线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1" name="Picture 6" descr="未命名"/>
          <p:cNvPicPr/>
          <p:nvPr/>
        </p:nvPicPr>
        <p:blipFill>
          <a:blip r:embed="rId2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5002-3EB0-4E1C-B82F-8C1A434DA9A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脾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59280" y="1773000"/>
            <a:ext cx="427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轻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高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3F5B-7C3E-4EE1-B388-A38FCF1442D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轻度肿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0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深吸气时，脾在肋缘下不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急慢性肝炎、伤寒、感染性心内膜炎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AD08-63A8-4F3F-97A9-261163952F6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中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至脐水平线以上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肝硬化、慢性淋巴性白血病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231F-4E4F-4263-81AD-DE7D2E565C9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高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脐水平线或前正中线，即巨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慢性淋巴性白血病、淋巴瘤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6D16-7ED0-4A48-ADEA-DFDDD7954F2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中线（腹白线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前正中线的延续，为腹部四区分法的垂直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1673-C4AC-410D-8DC4-28C7E1F0CF1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肾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一般用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病变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0238-8DCD-4624-9BD0-1CB03334DED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常见病变压痛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脊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与脊柱形成的夹角顶点，又称肋脊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腰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骨和腰肌外缘形成的夹角顶点，又称肋腰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上输尿管点：位于腹直肌外缘平脐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输尿管点：位于两髂前上棘连线与通过耻骨结节所做垂直                         线的交点上，相当于输尿管进入骨盆腔之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0D19-216F-49D7-B68F-F35E122CFAC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脊点、肋腰点出现压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肾盂肾炎、肾脓肿、肾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上输尿管和中输尿管点出现压痛 ：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结石或化脓性炎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C491-1AE9-4B98-BA54-6AB8CD3763B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膀胱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方法：单手滑行触诊法：以左手自脐水平向耻骨方向触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内有尿液充盈时胀大，触之有囊性感，不易推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手压时有尿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：仅在耻骨联合之上触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度肿大：可在耻骨上方触及横置的椭圆形的膀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明显肿大：下腹部高度膨隆，膀胱呈球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胀大常见于尿路梗阻、昏迷、 腰麻后等原因所致的尿潴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4000-C6E1-42C6-AF17-36F7498758A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530520" y="304560"/>
            <a:ext cx="538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叩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68360" y="1699920"/>
            <a:ext cx="4818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叩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浊音上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A741-90ED-45DB-B03E-1C515938CF4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腹部叩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腹部叩诊音呈鼓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音响程度与胃肠道充气量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49C7-8B25-4E68-B355-74CCF11FB3C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移动性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叩诊时叩诊音变浊，且可随体位改变而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当腹腔内游离腹水量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以上时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移动性浊音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液波震颤常需有大量腹水时才可测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水量少时，取膝肘位叩诊，脐处叩诊呈浊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WordArt 5"/>
          <p:cNvSpPr txBox="1"/>
          <p:nvPr/>
        </p:nvSpPr>
        <p:spPr>
          <a:xfrm>
            <a:off x="5003640" y="5589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误认为腹水的情况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C34E-3010-4408-AC16-5C3CCBE3325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误认为腹水的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9448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肠管内有大量液体潴留时，可因患者体位改变产生移动性浊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巨大的卵巢囊肿可误认为腹水。与腹水的鉴别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不同于腹水，仰卧时卵巢囊肿的浊音在腹中部，鼓音区在腹部两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的浊音无移动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887480" cy="2374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687680" cy="23763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6"/>
          <p:cNvSpPr/>
          <p:nvPr/>
        </p:nvSpPr>
        <p:spPr>
          <a:xfrm>
            <a:off x="4654440" y="607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腹水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7326360" y="607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卵巢囊肿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FE4F-00DF-4B9B-8C20-007B6E3D336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肝浊音上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右锁骨中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肺气肿：可使肝下界下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严重腹水、肝大  ：使肝上界上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胃肠穿孔（气体逸出，进入腹腔）：肝浊音可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5438-0381-4372-BCDA-6A6D2EC8A9A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叩击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手平放在被检脏器的体表位置上，右手握拳叩击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手背。如患者感到疼痛，称叩击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各脏器无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A94B-F216-4B63-8E09-ECEC00435BB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69231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中心，位于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腰椎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四区分法、阑尾压痛点及腰椎穿刺的定位标志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A147-7E38-40C7-9383-6193FD3FBF5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7640" y="33336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听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348000" y="2276280"/>
            <a:ext cx="395928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振水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CD56-285C-4E82-9078-430603F8189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肠鸣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蠕动产生的声音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（脐部明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亢进：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，见于急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减弱或消失：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钟以上才听到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或听不到肠鸣音。见于肠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FB16-3CEB-48CA-8C7B-46419392300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振水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6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四指连续迅速地冲击患者上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仅在饭后多饮时出现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、胃扩张：空腹或饭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~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以上，胃部仍有振水音，则提示胃排空不良。见于幽门梗阻、胃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EC62-F908-400F-9C65-9EF231BB511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小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检查是体格检查的重要组成部分；腹部检查内容多、复杂；主要包括视、触、叩、听检查，期中触诊是腹部主要的检查方法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视诊：腹部外形、呼吸运动、腹壁静脉曲、胃肠型和蠕动波。在腹部视诊的检查过程中，要仔细对腹部表面的脏器轮廓、包块、蠕动波进行观察，结合其他检查方法对腹部检查做出正确的、有意义的评估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听诊：肠鸣音、振水音、血管杂音。为了避免触诊引起胃肠蠕动增加，使肠鸣音发生变化，腹部检查的顺序为视、听、触、叩，但记录时为了统一格式仍按视、触、叩、听的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叩诊：脏器叩诊、移动性浊音、叩痛。正确掌握叩诊某些腹腔脏器边界位置及有无叩痛，腹腔内积气积液情况，进一步验证视诊与触诊的结果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触诊：腹壁紧张度、压痛和反跳痛、脏器触诊。触诊是腹部检查中最重要的一步，必须掌握各种触诊的正确手法和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评估可以帮助我们了解腹部脏器的一些病变情况，掌握腹部评估中的一些异常和正常情况，可以帮助护士在护理患者时及时发现问题及时上报，对于腹部评估的方法必须反复练习才能掌握。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83BE-5B47-4D46-B1EC-4CF6D728272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习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916360" y="1413000"/>
            <a:ext cx="369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案例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8518-1DEA-40BE-A34A-A1800C4824E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选择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胆囊炎时，下列哪项为阳性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Murphy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Courvoisi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Oliv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Grey-Turnet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Cullen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腹部触及包块时，包块与周围组织粘连，不易推动，压痛明显者，应考虑（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良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恶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囊肿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炎性肿块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游离脏器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女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小时前无诱因突然上腹刀割样疼痛，不敢直腰，腹肌紧张压痛、反跳痛明显，肝浊音界消失，应首先考虑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阑尾炎穿孔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宫外孕破裂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消化性溃疡急性穿孔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绞窄性肠梗阻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出血坏死性胰腺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男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主诉腹痛，腹部肠鸣音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分，且音调高呈金属音，最大可能为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肠炎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胃扩张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幽门梗阻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机械性肠梗阻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腹膜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3F57-A5D1-431C-B672-B4E455488BD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膜刺激征指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梗阻时，在腹壁上可看到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蠕动波和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F028-4BDD-4696-9490-E972F590A6B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名词解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DEFE-148C-467A-A40E-00EE6CA53DA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简答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46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何为肠鸣音亢进？何为肠鸣音减弱或消失？其临床意义如何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触诊时如触及肿块，应注意描述肿块的哪些内容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巨大卵巢囊肿与腹水如何鉴别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8704-9D9A-46DE-A5DA-84CF9F1138B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患者女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有乙肝病史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，近来感腹胀而就诊。查体：面部见蜘蛛痣，腹肌柔软，移动性浊音阳性。请回答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根据该病人病史及临床表现，你考虑此病人目前的医学诊断是什么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该病人治疗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个月复查，查体移动性浊音消失，提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后复查，查体出现液波震颤提示病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一患者起病急，上腹部痛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后转右下腹痛伴恶心呕吐，体温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7.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℃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。查体：位于脐与右髂前上棘中外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交界处出现明显固定的压痛和反跳痛，局部腹壁紧张。请问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你首先考虑该患者发生了什么情况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?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其诊断依据是什么？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F9E6-A5A2-45F9-9C4A-F29373DA9CB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髂前上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髂棘前方的突出点，为腹部九区分法、阑尾压痛点的定位标志及骨髓穿刺的部位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E512-EB2F-41A1-934E-91CBFCF1270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直肌外缘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2" action="ppaction://hlinksldjump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5324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抬头抬肩时可明显辨认，相当于锁骨中线的延续，右侧腹直肌外缘与肋弓下缘的交界处为胆囊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为手术切口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C9A2-AB3A-4476-82A8-FFD5CC2E758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股沟韧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77724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腹部体表的下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寻找股动、静脉和腹股沟疝通过部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54E3-FE20-4049-89BE-EA3D80B86F4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脊角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背部两侧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骨与脊柱的交角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为检查肾叩痛的位置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733F-1D78-4416-B67C-AEBD4E521CD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610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为腹中线最下部的骨性标志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3EDC-F166-4F25-B308-179537F25A6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6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8" descr="腹部前面体表标志图"/>
          <p:cNvPicPr/>
          <p:nvPr/>
        </p:nvPicPr>
        <p:blipFill>
          <a:blip r:embed="rId2"/>
          <a:stretch/>
        </p:blipFill>
        <p:spPr>
          <a:xfrm>
            <a:off x="1187280" y="1376280"/>
            <a:ext cx="75009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86B8-3B64-4015-BFC3-D2EB58ED67A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78FC-D2BE-4E7A-AF73-7A0D4968605C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864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分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16360" y="220464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四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九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黑体"/>
                <a:hlinkClick r:id="rId4" action="ppaction://hlinksldjump"/>
              </a:rPr>
              <a:t>七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22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22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979640" y="3068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1763640" y="3789360"/>
            <a:ext cx="679680" cy="665280"/>
          </a:xfrm>
          <a:prstGeom prst="hexagon">
            <a:avLst>
              <a:gd name="adj" fmla="val 2554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5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9758-34D5-480B-A8EF-2ACB5CAB2BB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971720" y="393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8523-7109-49FD-A3BD-47DA5C59B50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熟记腹壁静脉曲张的概念、移动性浊音的概念、腹膜刺激征的概念、压痛与反跳痛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描述肠鸣音活跃、亢进、减弱和消失的判断标准、腹部触诊的注意事项、常见腹部压痛点及位置、脾大的分度、腹部的体表标志及分区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知道腹部各区与腹腔脏器的对应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归纳腹部视诊、触诊的异常体征及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本节所学知识能正确对腹部进行视、触、叩、听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5923-2505-4194-9B75-1DA4160E4F0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1" name="Picture 8" descr="复件 腹部体表分区示意图图(七分法)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58D5-2AF0-4505-B01D-D19E67DE0F8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5" descr="复件 腹部体表分区示意图图(九区分法)"/>
          <p:cNvPicPr/>
          <p:nvPr/>
        </p:nvPicPr>
        <p:blipFill>
          <a:blip r:embed="rId2"/>
          <a:stretch/>
        </p:blipFill>
        <p:spPr>
          <a:xfrm>
            <a:off x="1692360" y="1268280"/>
            <a:ext cx="6913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57BC-918A-4CDC-836A-2FBDA0F587A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29" descr="腹部体表分区示意图图(四分法)"/>
          <p:cNvPicPr/>
          <p:nvPr/>
        </p:nvPicPr>
        <p:blipFill>
          <a:blip r:embed="rId2"/>
          <a:stretch/>
        </p:blipFill>
        <p:spPr>
          <a:xfrm>
            <a:off x="900000" y="1413000"/>
            <a:ext cx="78566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1B70-4CC6-4903-AC72-7DE17A55173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过脐划一水平线与一垂直线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两线相交将腹部分为四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右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右下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左下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77080" y="263700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3FC7-3293-40E8-9349-EBA2C36C9AE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2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                              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                           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                              右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                        结肠肝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升结肠及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5A0A-9BC5-401A-8F30-7D66CEFEC64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                  部分小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横结肠和降结肠          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                  胰体及胰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      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脾曲及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FB36-CD68-4BB9-BD6F-A9E15EA7863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                                部分升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侧输尿管                       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6982-723E-43EA-8495-61B846F7A78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部分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                          充盈的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输尿管   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        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2CC7-49C0-4633-8C56-07979BCD6BC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两条水平线和两条垂直线将腹部分为井字形的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面的水平线为两侧肋弓下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面的水平线为两侧髂前上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通过左右髂前上棘至腹中线连线的中点划两条垂直线，将腹部分为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各区的主要脏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6804000" y="2133720"/>
            <a:ext cx="1655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AACA-5F8C-48C7-AD07-E534EA352E7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各区的主要脏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340000" y="1196640"/>
            <a:ext cx="534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318280" y="1916280"/>
            <a:ext cx="54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95388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2" action="ppaction://hlinksldjump"/>
              </a:rPr>
              <a:t>左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57752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3" action="ppaction://hlinksldjump"/>
              </a:rPr>
              <a:t>左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6330240" y="22050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4" action="ppaction://hlinksldjump"/>
              </a:rPr>
              <a:t>左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7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5" action="ppaction://hlinksldjump"/>
              </a:rPr>
              <a:t>右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95388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右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625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右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66104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964320" y="436572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中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626940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10" action="ppaction://hlinksldjump"/>
              </a:rPr>
              <a:t>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0061-FA6E-4616-ABB3-660C52EDEBF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患者男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前常因过劳、气候变化及饮食不洁而反复发作上腹部隐痛，疼痛多于餐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~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发生，伴反酸、嗳气，进餐后缓解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前大量饮酒后突感上腹部剧烈疼痛，恶心，呕吐血性胃内容物两次，约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0 ml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急诊入院。查体：患者烦躁不安，皮肤湿冷、意识模糊，呼吸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0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／分，尿少，血压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80/60mmH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脉搏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分，腹软，上腹偏右压痛，无反跳痛，无腹壁紧张，肠鸣音活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请思考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本患者可能发生什么情况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判断患者目前的出血量大约是多少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护士对该患者应该如何进行护理评估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2346-63A9-421D-B927-5327DFED93F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563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结肠脾曲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胰尾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8746-9007-4DC5-84D3-59FF26ED487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131640" y="1557000"/>
            <a:ext cx="485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空肠或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下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E30B-CA77-4F87-A98B-343342E888E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56000" y="1413000"/>
            <a:ext cx="541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3646-CD9F-4ACE-AEA7-B1C397A1B71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527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肝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EDEC-3D92-443A-BFBA-226DE0D7ED1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64000" y="1980720"/>
            <a:ext cx="505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升结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右肾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4B3A-BF08-476D-8DB2-40367611822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76360" y="1196640"/>
            <a:ext cx="455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0499-A963-4BFF-88F0-2C1184DBBE4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43280" y="1196640"/>
            <a:ext cx="60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下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C315-030A-4A51-A758-1E133879C0B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16000" y="1267920"/>
            <a:ext cx="505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网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与胰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5B01-456E-4859-95E7-6FD0F007463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中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87280" y="134100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十二指肠下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下垂的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系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主动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大网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1294-B8FA-4291-BC01-F25D823A4D2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41360"/>
            <a:ext cx="8305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在九区法的基础上，将两侧腹部的三区改为通过脐的水平线分成上下两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左上腹部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下腹部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腹部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脐部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下腹部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右上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右下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5364000" y="37162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D700-ABDA-4759-A6A9-5C4BB59F0DE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819440" y="1787400"/>
            <a:ext cx="688320" cy="594000"/>
            <a:chOff x="1819440" y="1787400"/>
            <a:chExt cx="688320" cy="594000"/>
          </a:xfrm>
        </p:grpSpPr>
        <p:sp>
          <p:nvSpPr>
            <p:cNvPr id="124" name="AutoShape 5"/>
            <p:cNvSpPr/>
            <p:nvPr/>
          </p:nvSpPr>
          <p:spPr>
            <a:xfrm>
              <a:off x="182484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181944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185940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27" name="Text Box 8"/>
          <p:cNvSpPr/>
          <p:nvPr/>
        </p:nvSpPr>
        <p:spPr>
          <a:xfrm>
            <a:off x="199152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1819440" y="25495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979640" y="2637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35280" y="4653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5600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987640" y="407664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835280" y="3429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79640" y="3500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0" lang="en-US" sz="4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835280" y="422100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979640" y="4292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2741760" y="4168800"/>
            <a:ext cx="197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课后习题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91636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2627280" y="2565360"/>
            <a:ext cx="410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腹部的体表标志与分区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2543040" y="3376440"/>
            <a:ext cx="3829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腹部评估方法及内容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00360" y="1787400"/>
            <a:ext cx="688320" cy="594000"/>
            <a:chOff x="1800360" y="1787400"/>
            <a:chExt cx="688320" cy="594000"/>
          </a:xfrm>
        </p:grpSpPr>
        <p:sp>
          <p:nvSpPr>
            <p:cNvPr id="146" name="AutoShape 5"/>
            <p:cNvSpPr/>
            <p:nvPr/>
          </p:nvSpPr>
          <p:spPr>
            <a:xfrm>
              <a:off x="180576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180036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84032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197244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253692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289728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13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2" name="WordArt 46"/>
          <p:cNvSpPr txBox="1"/>
          <p:nvPr/>
        </p:nvSpPr>
        <p:spPr>
          <a:xfrm>
            <a:off x="5076720" y="5229360"/>
            <a:ext cx="19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后小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A9F1-9F3D-4101-BED0-CFCFD6C1E3D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56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脾、胃、左肾、左肾上腺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尾、结肠脾曲、降结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91D1-E670-4222-B31E-AC218752116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39880" y="2650680"/>
            <a:ext cx="7175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降结肠、乙状结肠、左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左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左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1C6B-5FA6-4BD1-A22D-9AF652519F4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80720" y="26665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胃、肝左叶、十二指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头和胰体、横结肠、腹主动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2CAF-2AAB-4EA9-AE4C-DDE4060BF6F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十二指肠下部、空肠及回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垂的胃或横结肠、腹主动脉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肠系膜及其淋巴结、大网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D3A0-7A1B-46B5-B3CA-1FAD8069519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肠、乙状结肠及直肠、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胀大的膀胱和增大的子宫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46EF-2D90-4C73-B6DE-0CA511F7D1D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5867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肝右叶、胆囊、右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肾上腺、结肠肝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3BA8-92AF-41F3-8F85-424B0C54C7E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77560" y="2330280"/>
            <a:ext cx="658332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盲部、阑尾、右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右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右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123D-A438-465E-8B6D-2E38F0BA281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视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Verdana"/>
              </a:rPr>
              <a:t> 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cc"/>
                </a:solidFill>
                <a:latin typeface="Verdana"/>
              </a:rPr>
              <a:t>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3" name="Picture 4" descr="太阳花"/>
          <p:cNvPicPr/>
          <p:nvPr/>
        </p:nvPicPr>
        <p:blipFill>
          <a:blip r:embed="rId4"/>
          <a:stretch/>
        </p:blipFill>
        <p:spPr>
          <a:xfrm>
            <a:off x="5867280" y="205740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wbw02slg"/>
          <p:cNvPicPr/>
          <p:nvPr/>
        </p:nvPicPr>
        <p:blipFill>
          <a:blip r:embed="rId5"/>
          <a:stretch/>
        </p:blipFill>
        <p:spPr>
          <a:xfrm>
            <a:off x="2268360" y="4292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wbw02slg"/>
          <p:cNvPicPr/>
          <p:nvPr/>
        </p:nvPicPr>
        <p:blipFill>
          <a:blip r:embed="rId6"/>
          <a:stretch/>
        </p:blipFill>
        <p:spPr>
          <a:xfrm>
            <a:off x="2340000" y="2565360"/>
            <a:ext cx="2858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3151-02E5-416E-81E7-E5F2B4079F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0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人腹部外形对称，一般描述为平坦、凹陷、膨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发育营养良好的青壮年前腹壁与肋缘至耻骨大致位于同一水平面，称为腹部平坦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小儿及肥胖者前腹壁可高于肋缘至耻骨的平面，脐部多呈凹陷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前腹壁稍低于肋缘至耻骨的平面称为腹部低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明显膨隆或凹陷具有病理意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E829-51E5-4C95-9131-378D4395D42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124080" y="18284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部膨隆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凹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式呼吸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腹壁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胃肠蠕动波及肠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6C2B-533C-4555-B12A-21ECF32A4EF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评估方法及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前，应嘱被评估者排空小便，被评估者取仰卧位，置一小枕于头下，两手自然放于躯干两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估者可与被评估者进行简单的交谈以帮助被评估者放松腹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方法仍然采用视诊、触诊、叩诊及听诊等基本方法。其中以触诊最为重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AutoShape 3">
            <a:hlinkClick r:id="rId2"/>
          </p:cNvPr>
          <p:cNvSpPr/>
          <p:nvPr/>
        </p:nvSpPr>
        <p:spPr>
          <a:xfrm>
            <a:off x="75564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3" action="ppaction://hlinksldjump"/>
              </a:rPr>
              <a:t>视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8" name="AutoShape 3">
            <a:hlinkClick r:id="rId4"/>
          </p:cNvPr>
          <p:cNvSpPr/>
          <p:nvPr/>
        </p:nvSpPr>
        <p:spPr>
          <a:xfrm>
            <a:off x="2700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5" action="ppaction://hlinksldjump"/>
              </a:rPr>
              <a:t>触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AutoShape 3">
            <a:hlinkClick r:id="rId6"/>
          </p:cNvPr>
          <p:cNvSpPr/>
          <p:nvPr/>
        </p:nvSpPr>
        <p:spPr>
          <a:xfrm>
            <a:off x="4716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7" action="ppaction://hlinksldjump"/>
              </a:rPr>
              <a:t>叩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0" name="AutoShape 3">
            <a:hlinkClick r:id="rId8"/>
          </p:cNvPr>
          <p:cNvSpPr/>
          <p:nvPr/>
        </p:nvSpPr>
        <p:spPr>
          <a:xfrm>
            <a:off x="673272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9" action="ppaction://hlinksldjump"/>
              </a:rPr>
              <a:t>听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82AD-98EF-45D8-95D1-5584E0FE3BB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膨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742840" y="22096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肥胖、妊娠晚期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量腹水、巨大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A7EC-71E8-46E6-863A-1283B8046EC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凹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49672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见于极度消瘦或严重脱水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重者呈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舟状腹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BA05-599C-4DA4-BEAC-2CBBF38BC36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式呼吸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36912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腹膜炎，腹肌和膈肌痉挛、强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胃穿孔、急性腹膜炎、腹水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AA9E-35FB-4349-932F-0DC66224CCA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静脉曲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腹壁静脉一般看不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检查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A18E-6C2D-4B71-92C5-BCB7456C1D2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上的静脉自下向上经腹         壁静脉和腋静脉          上腔静脉。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下的腹壁静脉自上而下经大隐静脉           下腔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334120" y="289548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5181480" y="297180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851280" y="27082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5029200" y="44956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2411280" y="472428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8124-4506-49B1-AE4E-3ED04190BBF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447336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门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下腔静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腔静脉阻塞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D6EA-A987-4F92-A5B0-E04ABAAE078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门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门脉高压形成侧支循环时，曲张的静脉以脐为中心向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四周伸展，血液的流向为脐静脉                   脐孔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扩张的腹部浅表静脉：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向上流入胸壁静脉、腋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 向下流入大隐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4500720" y="26370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103400" y="3860640"/>
            <a:ext cx="1941480" cy="23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E990-09E2-4D43-8A69-4086E5AD8E9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腔静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0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曲张的静脉大都分布在腹壁两侧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脐水平线以下的静脉血液的流向不是向下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上流入胸壁静脉和腋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9018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022F-E237-4464-892F-340FAD220CA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腔静脉阻塞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腹部的静脉血流方向不是向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下流入腹壁静脉和大隐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207000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EE65-92BA-4DA0-8E44-AEC1D2FDCE2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检查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评估者用右手示指和中指并拢紧压在一段无分支的静脉上，其中一只手指紧紧压住静脉并向外滑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，挤出静脉内血液；然后放松该手指，另一手指紧压不动，看静脉是否迅速充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再用同样的方法放松另一手指，根据血流的充盈情况可判断出血流方向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rcRect l="0" t="0" r="7538" b="0"/>
          <a:stretch/>
        </p:blipFill>
        <p:spPr>
          <a:xfrm>
            <a:off x="900000" y="4869000"/>
            <a:ext cx="1511280" cy="11919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D:\z\2006-12-22\照片-诊断 006 副本.jpg"/>
          <p:cNvPicPr/>
          <p:nvPr/>
        </p:nvPicPr>
        <p:blipFill>
          <a:blip r:embed="rId3"/>
          <a:stretch/>
        </p:blipFill>
        <p:spPr>
          <a:xfrm>
            <a:off x="3419640" y="4581360"/>
            <a:ext cx="1873080" cy="15732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4414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E6B6-067B-4D4C-9AC1-C2A90917D0C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部位于横膈与骨盆之间，前面及侧面为腹壁，后面为脊柱及腰肌，内含腹膜腔和腹腔脏器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腔脏器很多，互相交错重叠，正常脏器部分与肿块容易混淆，因此，仔细检查和辨认非常重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检查腹部仍用视诊、触诊、叩诊、听诊等基本检查法，但以触诊最为重要，需要反复实践才能掌握。并且还需借助实验室、影像学和内镜等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为了避免触诊引起胃肠蠕动增加，使肠鸣音发生变化，腹部检查的顺序为视、听、触、叩，但记录时为了统一格式仍按视、触、叩、听的顺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ADFC-0D01-4772-BE4B-690D78805EF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蠕动波及肠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一般不易见到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极度消瘦者可见到胃肠蠕动波及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胃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E78C-FF26-4705-AA2B-026218E7510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腹壁上可以看到肠蠕动波及肠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4438-FF4C-476F-8229-393B128299D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梗阻的上部蠕动增强，可出现蠕动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时上腹部可见到胃蠕动波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自左向右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F3DE-475F-4D09-9155-C80DACEF8F8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608200" y="304560"/>
            <a:ext cx="6307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1" action="ppaction://hlinksldjump"/>
              </a:rPr>
              <a:t>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一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壁紧张度、压痛、反跳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二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肿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三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肝脏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四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胆囊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五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六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七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Rectangle 22"/>
          <p:cNvSpPr/>
          <p:nvPr/>
        </p:nvSpPr>
        <p:spPr>
          <a:xfrm>
            <a:off x="44146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56A6-FAB4-4DF1-BF2A-CF107381ACB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、压痛、反跳痛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肌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压痛、反跳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FB41-D82D-4C4A-B1BD-CF2A738F65C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肌紧张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内有炎症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可因反射性痉挛而使腹壁变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壁紧张度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壁紧张度减弱或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2DFF-B58A-471E-937C-1D90E8EE226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腹壁紧张分两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局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弥漫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D4FF-086B-4422-833E-E3702E74910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局限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某一脏器的炎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急性阑尾炎           右下腹局限性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胆囊炎              右上腹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3635280" y="342900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3419640" y="450864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8CF0-BDCF-4483-8DF1-EA027548F25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弥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急性弥漫性炎症所致：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弥漫性炎症所致：结腹出现揉面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3245-A2C3-473F-A0A9-ECC6538114F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板状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8147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广泛性紧张硬如木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胃穿孔或其他原因引起的急性弥漫性腹膜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6DA4-3BCC-45D7-A4C2-CE14BC606C5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的体表标志与分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5640" y="19890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体表标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分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684360" y="285264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484360" y="263700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84360" y="393372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2728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627280" y="2708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A25D-2431-4A9E-9300-7D5BE05745A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减弱或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多见于老年人，经产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消耗性疾病及大量放腹水后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DCAD-16C7-4576-98C8-9D372106F6A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、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压痛：由浅入深按压，发生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反跳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③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壁压痛与腹腔脏器病变引起的压痛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二者鉴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④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腔内重要脏器病变所致的压痛位置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5885-5644-4895-9796-C3FBCC06B83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发现压痛后，手指在该处稍停片刻，然后将手迅速抬起，在这一瞬间患者感到腹痛加重，并有痛苦表情称之为反跳痛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炎症累及腹膜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0040-0812-4261-98AD-DA6F1B60972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二者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将患者有压痛处的腹壁轻轻抓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壁的压痛，疼痛更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腔脏器的压痛，疼痛不加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0F23-7834-4D1E-9305-338E124F6DC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腔内脏器病变所致的压痛位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⑴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急性胆囊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⑵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急性胰腺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⑶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消化性溃疡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⑷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急性阑尾炎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7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⑸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及子宫病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⑹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腹内脏器肿瘤早期、腹部肠管蛔虫病、胆管蛔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⑺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右肺下叶肺炎、右侧胸膜炎、心梗等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03EE-F7E9-4DDA-8555-504442057A6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胆囊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645336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侧腹直肌外缘与肋弓下缘交界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明显压痛               胆囊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3780000" y="386064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9FAF-C142-4F21-8444-ADFD7C3856B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胰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6970680" cy="36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中腹部及偏左处有压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D785-F245-456A-8F08-DA98011C5F1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消化性溃疡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682632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在剑突下或稍偏左、右处有压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D712-B8EA-421D-BC46-774DF06F804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急性阑尾炎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表现上腹部压痛及疼痛数小时后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限于右下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髂前上棘与脐的连线的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交界处常有压痛       麦氏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McBurn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3780000" y="48690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3027-2CE0-45C7-A78A-01ECF78E667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膀胱及子宫病变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52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8134-0F88-42EE-AA7A-420955A5EB6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肋弓下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腹上角（胸骨下角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腹中线（腹白线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脐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髂前上棘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腹直肌外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3" action="ppaction://hlinksldjump"/>
              </a:rPr>
              <a:t>腹股沟韧带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4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5" action="ppaction://hlinksldjump"/>
              </a:rPr>
              <a:t>肋脊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WordArt 8"/>
          <p:cNvSpPr txBox="1"/>
          <p:nvPr/>
        </p:nvSpPr>
        <p:spPr>
          <a:xfrm rot="21346200">
            <a:off x="5181480" y="3429000"/>
            <a:ext cx="3200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体表标志示意图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8F34-68B5-4AD5-8949-9DBC052EBDB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内脏器肿瘤早期、_x000b_    腹部肠管蛔虫病、胆管蛔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4040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虽有腹痛，但无腹部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01E2-C153-4E92-BE53-45EF90373AA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肺下叶肺炎、右侧胸膜炎、心梗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可引起腹部压痛（放射痛、牵涉痛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E5D9-47F8-4FB0-90FC-F5A959F2A42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肿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时应注意肿快的位置、大小、形状、硬度、有无压痛与波动、能否移动、与周围器官和腹壁的关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炎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良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恶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B0F4-1C10-4744-BD8A-01EEA88B838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炎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5800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肿块与邻近组织粘连、压痛明显、不易推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A63F-2A10-48FF-8750-86F1DB06610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良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4920" y="2209680"/>
            <a:ext cx="84978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边界清楚、表面光滑、质地不坚、压痛不著、活动度较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35ED-24D9-4E57-89B9-8158290FE96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恶性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包块巨大，边界模糊，表面不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地坚硬，移动度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7A4F-6161-4DB9-B05D-A37A83188F2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，右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剑突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⑴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⑵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肝触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9750-EE07-4D46-94D4-175927B34F2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4305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钩指触诊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rcRect l="0" t="0" r="0" b="10696"/>
          <a:stretch/>
        </p:blipFill>
        <p:spPr>
          <a:xfrm>
            <a:off x="4859280" y="2852640"/>
            <a:ext cx="33130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5DCA-3E92-42C9-8D0C-1414C172ED6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03280" y="1412640"/>
            <a:ext cx="404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大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质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表面光滑度及边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肝颈静脉回流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肝区腹膜摩擦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CBF8-E875-4857-8910-70AAD32195A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质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79640" y="1773000"/>
            <a:ext cx="6478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软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口唇）正常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韧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鼻尖）急性肝炎、脂肪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硬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前额）肝硬化、肝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F10E-BDBB-441A-8B51-7AEDAF993E5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弓下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软骨构成，其下缘为体表腹部的上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用于腹部分区及肝脾的测量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0DA0-7ACB-4FD5-890B-3032F45E849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大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肋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，剑突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EA1C-77AE-4F29-8A63-9CDA0FE71CC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面光滑度及边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⑴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光滑、边缘规则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常肝、急性肝炎、肝淤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⑵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不光滑，呈较均匀的小结节状，边缘不整且较薄者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肝硬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⑶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呈粗大不均匀的结节状，边缘厚薄不一致： 肝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0ABB-3913-4B15-903F-4C154C05BBA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无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炎、急性肝淤血、肝脓肿时有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0A7B-F082-4025-8860-11E0F8F9D29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颈静脉回流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手按压肿大的肝时，颈静脉充盈较前更明显，停止按压时，颈静脉充盈复原，即为肝颈静脉回流征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右心衰竭、心包积液或心包缩窄的一个重要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E106-B8A8-480C-8A16-EC0A8000383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区腹膜摩擦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让患者用力做腹式呼吸，此时如触及断续而粗糙的震动，即为肝区腹膜摩擦感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肝周围炎时产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D7BF-9EC5-47EB-9ABF-84529011247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胆囊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胆囊不能触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34D3-4D99-46AA-89F4-FECCA019D6D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左手掌放于患者的右前胸下部，左拇指置于右肋下缘与腹直肌交界处，并按压腹部，嘱患者缓慢深呼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如在吸气过程中，患者因疼痛而突然终止吸气者称为莫菲征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）阳性。为胆囊炎症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rcRect l="0" t="11885" r="8913" b="0"/>
          <a:stretch/>
        </p:blipFill>
        <p:spPr>
          <a:xfrm>
            <a:off x="4788000" y="3959280"/>
            <a:ext cx="30970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4A05-2F29-44B7-981A-9919DEC7AD7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炎：肿大、囊性感，右上腹肌紧张压痛，莫菲征阳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胰头癌压迫胆总管：胆囊肿大，进行性黄疸，胆囊大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但无压痛            称为胆总管渐进阻塞征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Courvoisier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总管结石：黄疸明显，胆囊常不肿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因慢性炎症， 胆囊纤维化而皱缩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结石和胆囊癌时：胆囊肿大，有实体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2124000" y="31417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A942-E615-4A70-9191-FDD2D8DB6F1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978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脾不能触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脾触诊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脾大的测量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脾大的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脾大及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876A-12BC-408F-A02C-1194291B908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通常脾触诊采用单手触诊法及双手触诊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明显肿大，位置较表浅时，用单手触诊稍用力即可触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轻度肿大，并且位置较深，则需要用双手触诊法进行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被评估者采取仰卧位，双腿稍屈曲，使腹壁松弛，评估者位于右侧，左手置于被评估者左季肋部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处的侧后方，将脾脏由后向前托起，右手平放腹部与右肋弓垂直，从髂前上棘连线水平开始随被评估者腹式呼吸自下而上进行触诊，直至触到脾下缘或右肋弓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1752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02:43:28Z</dcterms:created>
  <dc:creator>李晓慧</dc:creator>
  <dc:description/>
  <dc:language>en-US</dc:language>
  <cp:lastModifiedBy>赵欣</cp:lastModifiedBy>
  <dcterms:modified xsi:type="dcterms:W3CDTF">2015-12-16T09:06:23Z</dcterms:modified>
  <cp:revision>98</cp:revision>
  <dc:subject/>
  <dc:title>腹部检查</dc:title>
</cp:coreProperties>
</file>